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type.wav" ContentType="audio/x-wav"/>
  <Override PartName="/ppt/media/chimes.wav" ContentType="audio/x-wav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80C5-67BC-458F-8E4A-9A8351DA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57CC-F19D-48CA-BF89-EFE226F0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ADA3B-ACED-4C2D-920D-79E061FE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24E50-4D9D-42D6-86C4-06825FE1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D18CE-2B5B-4347-9607-DE40F193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7B17D-2210-48FD-8B77-19A048B7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67460-FDE3-450A-9F89-C2D6F163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37210-0770-49F1-AA0C-F70C4D02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39FAB-1467-4012-9725-783330EC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C38C8-8F9A-4DC6-BC30-82FE1344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71D76-C645-4FE3-8A7A-45E5E8FA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C8FFB-F4BC-4E44-8679-1D08100C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6F43-44C3-45F3-A814-C1D8060C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4CC32-2A73-4DE1-9573-79F8DB5B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A1A19-52CC-437B-9260-E0F793DD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12A80-9DC9-4060-99AC-CA26563A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53BA2-821B-4003-8A90-D83AB171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3C839-6953-41F4-8091-231B6D50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E21E5-56FB-4870-8D28-F45D6CD0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B01CD-E8B2-4FAF-B87B-1B34FCBF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4E4F2-E75D-41EF-BB39-D14C0CA7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A5F57-FBC2-45A2-AC2A-AC5870B1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B59E7-7A6C-4E5C-8E7E-B4887CA7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B0AA-5143-41AB-A7AF-C09961E8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4A051-5B08-4DE0-BC5D-0720A521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19B93-A8C4-4726-B9FB-8026E64E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9211F-4FFE-4897-830C-C0854325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F13B8-66F6-4FF4-97A7-26AB8039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887A5-0652-46D5-B2F6-53315293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4F02D-8E95-4AD3-BFE3-298220B0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40DBB-178E-48FE-949A-0D2B4BA1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E5618-7518-4E4F-8791-82F5B72B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8ACAA-41EC-4392-9D0E-34369153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A3EB7-B9A7-4F31-8ABD-83B2B03E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ACC0-0858-4A8C-A0F1-120621C4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BD6CD-54D7-42F4-A78D-ABE22B1F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86256-1BAA-408C-84B7-D924806A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F3948-52CF-4480-B652-E40B3C4A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1927-C724-4AA8-9077-8CD577ED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4A02-EBE0-4A4C-ADE4-2680E82C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112F-999F-4B7C-B6AD-E2ECF5C9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4375-2C85-4B68-8DD7-08051E7F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CA15-6B42-4AD8-9181-51A3D328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ED8A-9342-4800-B923-5126E767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B803-FC55-41D8-BDE9-2DFE864E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C639-8F16-4EE2-A826-E81F423A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93CB-6DF7-4EE1-95AD-91B59C6E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03AD-2043-4012-8A77-3E44BBB3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4E67-F5E2-4147-B409-4B6CCE9F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B277-CFDB-405F-A6A2-5E844FC0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86CD6-B743-406E-BC99-29DDE372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6147B-1718-4CE2-8DAD-589BBCB5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366DC-5003-4E66-8EB8-AEE17EF6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702A9-287D-4588-AFC5-587AEF26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C26A3-3009-42EC-9FF2-0D956209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B54E-1A22-4954-BAA9-80D14A4E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FEA43-841D-45EE-9D6C-A85053C2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034E9-1BBD-40A5-968A-11E3E6CA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F7938-2C66-499B-96F0-9F10ED8B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D6CC5-3745-4B28-B793-9C312DB9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32D11-1BD0-42D5-9936-04512E5F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A96C9-1060-42D1-A7BC-8EEFA155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C1A86-7C26-4947-AA43-A4ED1F28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12434-BE09-4AD1-8B9C-455997C6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BA573-E27D-44AC-8CE6-1597DFBC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44E17-3FC8-4E81-9EC5-1CC9C8CE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1D59-6456-4C2F-B90A-2D922EDA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A9B41-860C-468B-AE97-60CF3C8C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6F6F3-C840-4B44-B244-DD7875D3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AEED4-2F83-4831-BE13-99AB7883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70295-4B16-44D4-8567-922C1816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1E6C5-9255-4149-A0B2-04E19DC2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FB92F-F6B0-4DE6-A2B9-8DD42F69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47738-C314-4BA4-9AAF-DC1CEACF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A25B4-2E98-4C58-A662-38F40620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1B781-2F9A-400A-80DA-4C6010FC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619A6-67C3-4BCA-87AD-1E5CF879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FEE7-C2B7-4F86-AABA-AF121DBF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757E5-B431-40E8-B830-73181123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624E8-8CF8-4085-AB0C-FA9A9071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D3A1C-14EE-4F59-9EE8-CAC836EA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71327-2876-4CD3-9E16-90F9E0DA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30230-59FF-458E-8C32-5CC3DB74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FEE9A-C5DD-4872-9038-229935EF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0D552-7097-47EA-99AA-670B44B5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FC868-9586-464B-BCEC-970D7D08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CF937-E2C8-4BBF-BAA9-BD0EA822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248A3-6E47-43AC-AD8D-B35E790F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3656-5A1B-49E5-94F2-6BCF738A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C4508-4035-4E10-A7B5-01C1E285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0B0F1-9E27-4B74-BC9E-3DA43F58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345D3-8524-4742-8753-1E5E3C69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E9C78-870A-4806-B1F4-20B3F117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44DCE-547F-4AC2-B356-A8FDD759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24D8D-7574-4F2C-A651-B2A05529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BA1F1-FFE9-46B2-8C61-41D6CA8C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176E8-A948-461D-95C1-A0F2C82A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F08E8-A44A-4B82-A04C-5335AFAD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005FA-82CD-4869-87BC-5CBAD4B4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C17A-2D71-45DB-973A-D194F76D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6321A-D2DB-4BBE-B494-C7A56047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67652-BD9C-4288-85E9-EF167402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3997E-0060-4DF8-A1C6-F286F07D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751E4-D9EE-40CD-AE4D-1ADD812F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8AFC1-C620-4CDB-B19F-1F7BB1DB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66636-4049-415B-9988-113F70FA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0710F-0770-4480-BCFB-4DEC956E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C664A-8FEF-4B25-881C-1B5DFCA5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990B0-349C-4816-B34F-AB500012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683E6-A1B8-4207-AB7E-D04116A0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F7F5-63AB-4211-9807-E1405D98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07291-4891-475D-B51E-75CC2B76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65DD7-0C3E-4A8E-8A01-F9AF8794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D7A6D-DB83-4C87-979C-C32C6E2C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82BD5-BAD7-47A8-8776-79645110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2B55F-0688-48BA-BA4F-EC1F2DB2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9C518-A6E9-4FD8-B081-628EC86E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EE573-F602-4435-9399-1038F8FE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937CB-122C-44CB-A116-00AC5226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F5C06-5C37-4E12-8190-3F6D4B55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59940-8564-4B0D-A7A0-5AF326D2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B486-C519-491C-BBCB-389F00B6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5B218-AC1E-41A5-92B8-8D1F1061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D8FE0-4C97-4F87-8384-5C5D26CA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72583-B95D-4BBC-AF79-ED0EA28F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FFB78-8954-4B9B-871D-DC6A6BEA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364BA-1325-4B6E-8C36-73F6DC3B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8D850-C864-4A62-8633-7FFF024C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C4E67-5E8A-49EA-B8D9-72D46DC0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AF0C9-37BA-44F5-9AC9-F9FBD97F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BC98A-9B4A-4EBF-9B7E-744492FE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E0F7C-B5CC-4A76-B060-58505E8D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2B46-6F81-485B-B851-3A68A4C47E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8705-8987-4921-A4EF-CBF6A5A7632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1F7E-3FAF-43EC-9E60-1A862446A37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BF03-181B-47C3-963E-1F99404C424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D584-4AA3-422A-A1AE-43914F8FE79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CC59-42D5-455D-9BE8-FF3FCC89BE0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75A9-1481-4222-ADEC-4855D9F8228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80F5-F58D-4EF1-B44D-A2A08A5E1E4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0E45-9498-4BA1-9E1F-D3679E0852F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24DC-CCF9-43CE-B26A-2FCDEBDCC55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EC0A-DAFB-4014-8B00-ECF9BC4C3B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Text Box 5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1992240"/>
          </a:xfrm>
          <a:prstGeom prst="rect">
            <a:avLst/>
          </a:prstGeom>
          <a:ln w="0">
            <a:noFill/>
          </a:ln>
        </p:spPr>
      </p:pic>
      <p:pic>
        <p:nvPicPr>
          <p:cNvPr id="463" name="Text Box 5" descr=""/>
          <p:cNvPicPr/>
          <p:nvPr/>
        </p:nvPicPr>
        <p:blipFill>
          <a:blip r:embed="rId2"/>
          <a:stretch/>
        </p:blipFill>
        <p:spPr>
          <a:xfrm>
            <a:off x="0" y="3959280"/>
            <a:ext cx="9144000" cy="993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TextBox 1" descr=""/>
          <p:cNvPicPr/>
          <p:nvPr/>
        </p:nvPicPr>
        <p:blipFill>
          <a:blip r:embed="rId1"/>
          <a:stretch/>
        </p:blipFill>
        <p:spPr>
          <a:xfrm>
            <a:off x="1182600" y="176040"/>
            <a:ext cx="3316320" cy="615960"/>
          </a:xfrm>
          <a:prstGeom prst="rect">
            <a:avLst/>
          </a:prstGeom>
          <a:ln w="0">
            <a:noFill/>
          </a:ln>
        </p:spPr>
      </p:pic>
      <p:sp>
        <p:nvSpPr>
          <p:cNvPr id="465" name="TextBox 1"/>
          <p:cNvSpPr/>
          <p:nvPr/>
        </p:nvSpPr>
        <p:spPr>
          <a:xfrm>
            <a:off x="2955960" y="1765440"/>
            <a:ext cx="319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用长为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米的一根绳子，围成一个矩形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其面积的最大值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" descr=""/>
          <p:cNvPicPr/>
          <p:nvPr/>
        </p:nvPicPr>
        <p:blipFill>
          <a:blip r:embed="rId1"/>
          <a:stretch/>
        </p:blipFill>
        <p:spPr>
          <a:xfrm>
            <a:off x="1182600" y="176040"/>
            <a:ext cx="3316320" cy="61596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"/>
          <p:cNvSpPr/>
          <p:nvPr/>
        </p:nvSpPr>
        <p:spPr>
          <a:xfrm>
            <a:off x="1307880" y="1341360"/>
            <a:ext cx="6381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用总长度为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4m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不锈钢材料制成如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所示的外观为矩形的框架，其横档和竖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别与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AD,AB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平行。设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AB=xm,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当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多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时，矩形框架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ABCD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面积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s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最大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最大面积是多少平方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3203640" y="4746600"/>
          <a:ext cx="3940200" cy="1728720"/>
        </p:xfrm>
        <a:graphic>
          <a:graphicData uri="http://schemas.openxmlformats.org/drawingml/2006/table">
            <a:tbl>
              <a:tblPr/>
              <a:tblGrid>
                <a:gridCol w="1328760"/>
                <a:gridCol w="1260360"/>
                <a:gridCol w="1351080"/>
              </a:tblGrid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9" name="TextBox 7"/>
          <p:cNvSpPr/>
          <p:nvPr/>
        </p:nvSpPr>
        <p:spPr>
          <a:xfrm>
            <a:off x="2474640" y="447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8"/>
          <p:cNvSpPr/>
          <p:nvPr/>
        </p:nvSpPr>
        <p:spPr>
          <a:xfrm>
            <a:off x="2489760" y="61340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9"/>
          <p:cNvSpPr/>
          <p:nvPr/>
        </p:nvSpPr>
        <p:spPr>
          <a:xfrm>
            <a:off x="7337160" y="62118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0"/>
          <p:cNvSpPr/>
          <p:nvPr/>
        </p:nvSpPr>
        <p:spPr>
          <a:xfrm>
            <a:off x="7352280" y="447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TextBox 1" descr=""/>
          <p:cNvPicPr/>
          <p:nvPr/>
        </p:nvPicPr>
        <p:blipFill>
          <a:blip r:embed="rId1"/>
          <a:stretch/>
        </p:blipFill>
        <p:spPr>
          <a:xfrm>
            <a:off x="1182600" y="176040"/>
            <a:ext cx="3316320" cy="615960"/>
          </a:xfrm>
          <a:prstGeom prst="rect">
            <a:avLst/>
          </a:prstGeom>
          <a:ln w="0">
            <a:noFill/>
          </a:ln>
        </p:spPr>
      </p:pic>
      <p:sp>
        <p:nvSpPr>
          <p:cNvPr id="474" name="矩形 4"/>
          <p:cNvSpPr/>
          <p:nvPr/>
        </p:nvSpPr>
        <p:spPr>
          <a:xfrm>
            <a:off x="351000" y="1341360"/>
            <a:ext cx="861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一工艺师生产的某种产品按质量分为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个档次，第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档次（最低档次）的产品一天能生产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件，每件可获利润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元。产品每提高一个档次，每件产品的利润增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元，但一天产量减少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件，如果只从生产利润这一角度考虑，他生产哪个档次的产品，可获得最大利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TextBox 1" descr=""/>
          <p:cNvPicPr/>
          <p:nvPr/>
        </p:nvPicPr>
        <p:blipFill>
          <a:blip r:embed="rId1"/>
          <a:stretch/>
        </p:blipFill>
        <p:spPr>
          <a:xfrm>
            <a:off x="1182600" y="176040"/>
            <a:ext cx="3316320" cy="61596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3"/>
          <p:cNvSpPr/>
          <p:nvPr/>
        </p:nvSpPr>
        <p:spPr>
          <a:xfrm>
            <a:off x="1066680" y="1143000"/>
            <a:ext cx="5791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黑体"/>
              </a:rPr>
              <a:t>二次函数应用的解题思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457200" y="2057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宋体"/>
              </a:rPr>
              <a:t>回顾本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dc5900"/>
                </a:solidFill>
                <a:latin typeface="隶书"/>
                <a:ea typeface="宋体"/>
              </a:rPr>
              <a:t>最大利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dc5900"/>
                </a:solidFill>
                <a:latin typeface="隶书"/>
                <a:ea typeface="宋体"/>
              </a:rPr>
              <a:t>最大面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宋体"/>
              </a:rPr>
              <a:t>解决问题的过程，你能总结一下解决此类问题的</a:t>
            </a:r>
            <a:r>
              <a:rPr b="1" lang="zh-CN" sz="2800" spc="-1" strike="noStrike">
                <a:solidFill>
                  <a:srgbClr val="7979a5"/>
                </a:solidFill>
                <a:latin typeface="隶书"/>
                <a:ea typeface="宋体"/>
              </a:rPr>
              <a:t>基本思路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宋体"/>
              </a:rPr>
              <a:t>吗？与同伴交流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"/>
          <p:cNvSpPr/>
          <p:nvPr/>
        </p:nvSpPr>
        <p:spPr>
          <a:xfrm>
            <a:off x="457200" y="3505320"/>
            <a:ext cx="8381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理解问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8"/>
          <p:cNvSpPr/>
          <p:nvPr/>
        </p:nvSpPr>
        <p:spPr>
          <a:xfrm>
            <a:off x="457200" y="40384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析问题中的变量和常量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以及它们之间的关系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9"/>
          <p:cNvSpPr/>
          <p:nvPr/>
        </p:nvSpPr>
        <p:spPr>
          <a:xfrm>
            <a:off x="457200" y="4648320"/>
            <a:ext cx="8381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用数学的方式表示出它们之间的关系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0"/>
          <p:cNvSpPr/>
          <p:nvPr/>
        </p:nvSpPr>
        <p:spPr>
          <a:xfrm>
            <a:off x="457200" y="525780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做数学求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1"/>
          <p:cNvSpPr/>
          <p:nvPr/>
        </p:nvSpPr>
        <p:spPr>
          <a:xfrm>
            <a:off x="457200" y="5791320"/>
            <a:ext cx="8381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检验结果的合理性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拓展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7:24:15Z</dcterms:created>
  <dc:creator>lijunhua</dc:creator>
  <dc:description/>
  <dc:language>en-US</dc:language>
  <cp:lastModifiedBy>Administrator</cp:lastModifiedBy>
  <dcterms:modified xsi:type="dcterms:W3CDTF">2018-12-29T07:25:50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